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25074-8881-445C-94FA-947087662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9C32F-DEC5-4130-88BF-1D43BCF7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7D1A1-87EC-4F49-9EDF-7DB4AEE29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2F310-5CF4-49C6-9748-CE9EC9FE5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9F076-310B-4069-AEC9-FBC71E241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F0796-C797-4B2D-82E6-064F53A19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B5A0A-8A3E-47BF-A708-77623CA49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FEB10-F846-4255-92E5-6F3CFBA2A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97D25-485B-4531-BDED-D4880CCD4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F491B-3A87-4694-B1F0-919F1DCAC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72289-6DFD-4665-949A-EEDA51360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944F9-A5B2-480B-A622-B638FAA29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6CAA8-5A1F-4828-98FE-B5D3E0794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BC31D-1881-4F10-828C-37ABC0F95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65E6E-6963-4BC7-A934-9D3CD565D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B467A-0BFC-45AD-8944-AFEAE4329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91014-67A2-4DAE-B462-F972C2094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6F803-794E-4162-BA42-47053B9D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D82B3-3E09-420F-8C1B-5C7CDC797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3B912-EB82-4562-AB72-E8C84600E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B2DE8-0AE8-428E-A1A3-B02D73392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276A-3425-4145-A6CC-E297E487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6906-75BF-49EA-8D0C-F3D5F305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4B73-B07C-4640-9AFB-E39EC9950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D471-9FD4-4820-B549-72971759E6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1B81-DE1A-4B30-9B53-66C35B5E69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2. Word Zone </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228240" y="1294920"/>
            <a:ext cx="8915400" cy="4419720"/>
          </a:xfrm>
          <a:prstGeom prst="rect">
            <a:avLst/>
          </a:prstGeom>
          <a:noFill/>
          <a:ln w="0">
            <a:noFill/>
          </a:ln>
        </p:spPr>
        <p:txBody>
          <a:bodyPr lIns="90000" rIns="90000" tIns="46800" bIns="46800" anchor="t">
            <a:noAutofit/>
          </a:bodyPr>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Decoding and Word Recognition</a:t>
            </a:r>
            <a:endParaRPr b="0" lang="en-US" sz="2400" spc="-1" strike="noStrike">
              <a:solidFill>
                <a:srgbClr val="ffffff"/>
              </a:solidFill>
              <a:latin typeface="Arial"/>
            </a:endParaRPr>
          </a:p>
          <a:p>
            <a:pPr marL="609480" indent="-609480">
              <a:lnSpc>
                <a:spcPct val="90000"/>
              </a:lnSpc>
              <a:spcBef>
                <a:spcPts val="601"/>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ord Assessment:</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you see a list of words and hear one pronounced. You can click on the word as soon as you hear it. If you get it wrong, it becomes a STUDY WORD! Once you have 5 study words, continue to the next activity.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 Word Assessment Report:</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you complete the Word Assessment, you can see a summary of how well you did. This report shows the number of words that you got correct, the number of words you missed, and the number that you answered correctly BUT were slow to answ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7720" y="228600"/>
            <a:ext cx="800748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 Word Clinic: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read and record your study words. You get a special tip on reading the first word in the list, and then you make a recording of the wor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 Word Matc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 record your study words, you match your recording with the correct word.  You can also click on the word to have a sample senten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7720" y="304920"/>
            <a:ext cx="8007480" cy="579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 Self Check: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ractice reading aloud and recording your study words and your review words. You read and record ten words in three rounds. In each round, you have time to record the word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 Speed Challeng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similar to the Word Assessment Activity. You hear a word and click on it in the list provided, but you have less time to do s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 REVIE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get extra practice with review words. These are words that you have already learned in other sec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2:36:29Z</dcterms:created>
  <dc:creator> </dc:creator>
  <dc:description/>
  <dc:language>en-US</dc:language>
  <cp:lastModifiedBy>BHPRSD</cp:lastModifiedBy>
  <dcterms:modified xsi:type="dcterms:W3CDTF">2007-09-12T17:58:59Z</dcterms:modified>
  <cp:revision>4</cp:revision>
  <dc:subject/>
  <dc:title>2. Word Zone </dc:title>
</cp:coreProperties>
</file>